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29.wmf" ContentType="image/x-wmf"/>
  <Override PartName="/ppt/media/image6.png" ContentType="image/png"/>
  <Override PartName="/ppt/media/image10.png" ContentType="image/png"/>
  <Override PartName="/ppt/media/image28.wmf" ContentType="image/x-wmf"/>
  <Override PartName="/ppt/media/image5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38F48-7E5F-4D2D-8898-19958F81F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ABF8F-41C9-487B-AECA-D1E3C1FD2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AB5FE-BD17-437F-A771-91158DF36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2CE7A-E47F-47A8-AECB-EF0587140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D2E5F-9429-4DF3-8608-C2CF12193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D2ECC-B870-427A-850F-9F9B9E787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59010-1A24-4EF6-9627-57AA68831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FCA0E-9E48-4C74-8041-406F60851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82B1F-F5E6-4BAB-AD19-91F8F9D10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4047D-490F-419F-AE19-456C7793B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1F49F-61EC-4A32-A9DF-F733DC207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EFB46-477E-4DBF-917B-3779E57D4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20FC9-5FEE-422F-B759-39769E4C7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A616F-73AA-43A5-97B2-98A411D50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C256C-8691-4A25-BFBC-5829B3562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D84C1-BAB0-4093-AC34-B398799D7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3C4E2-9224-42A3-B92F-33FDB25EA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6244D-2920-42F8-9459-9830675BE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EDC16-E162-4427-AA41-F429B228B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1FE86-A2BE-4A0B-8C7D-DEB1B838C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45D10-E45F-4C27-8AF6-C93D537C8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12042-F71E-4F58-BB29-FB02F722F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57A0A-37BB-4D8A-A788-9F2257BC2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F055E-D08F-4E86-9FBC-0A0CB82FB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99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6666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16DE8-A52A-489A-AABB-B829C96C3E6F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666699"/>
                </a:solidFill>
                <a:latin typeface="Garamond"/>
              </a:rPr>
              <a:t>Click to edit the title text format</a:t>
            </a:r>
            <a:endParaRPr b="0" lang="en-US" sz="58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84CBF-3526-49CD-B04C-9C73F5DABCA8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50" name="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image" Target="../media/image28.wmf"/><Relationship Id="rId7" Type="http://schemas.openxmlformats.org/officeDocument/2006/relationships/image" Target="../media/image29.wmf"/><Relationship Id="rId8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699"/>
                </a:solidFill>
                <a:latin typeface="Garamond"/>
              </a:rPr>
              <a:t>Me llamo _________</a:t>
            </a:r>
            <a:r>
              <a:rPr b="0" lang="en-US" sz="4000" spc="-1" strike="noStrike">
                <a:solidFill>
                  <a:srgbClr val="666699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666699"/>
                </a:solidFill>
                <a:latin typeface="Garamond"/>
              </a:rPr>
              <a:t>      Clase 8 Nv</a:t>
            </a:r>
            <a:br>
              <a:rPr sz="4000"/>
            </a:br>
            <a:r>
              <a:rPr b="0" lang="en-US" sz="4000" spc="-1" strike="noStrike">
                <a:solidFill>
                  <a:srgbClr val="666699"/>
                </a:solidFill>
                <a:latin typeface="Garamond"/>
              </a:rPr>
              <a:t>La fecha es el 7 de noviembre del 2011</a:t>
            </a:r>
            <a:endParaRPr b="0" lang="en-US" sz="40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Verdana"/>
              </a:rPr>
              <a:t>Propósito # 13: 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¿Cómo finalizamos el repaso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Verdana"/>
              </a:rPr>
              <a:t>Actividad Inicial: 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Copia y completa con el antónimo correct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ffcc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No soy 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Verdana"/>
              </a:rPr>
              <a:t>estupido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, soy __________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ffcc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No soy 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Verdana"/>
              </a:rPr>
              <a:t>antipática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, soy __________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ffcc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No soy 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Verdana"/>
              </a:rPr>
              <a:t>malo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, soy ____________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ffcc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No soy 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Verdana"/>
              </a:rPr>
              <a:t>perezoso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, soy ___________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ffcc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No soy 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Verdana"/>
              </a:rPr>
              <a:t>débil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, soy ___________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ffcc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No soy 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Verdana"/>
              </a:rPr>
              <a:t>vieja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, soy ___________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3059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Practica:</a:t>
            </a:r>
            <a:r>
              <a:rPr b="0" lang="en-US" sz="4400" spc="-1" strike="noStrike">
                <a:solidFill>
                  <a:srgbClr val="666699"/>
                </a:solidFill>
                <a:latin typeface="Garamond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Escribe en espanol.</a:t>
            </a:r>
            <a:br>
              <a:rPr sz="4400"/>
            </a:b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48896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¿Que te gusta hacer en tu tiempo libre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e gusta…. / No me gusta…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¿Que le gusta hacer en su tiempo libre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e gusta… / No le gusta…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730080" y="685800"/>
            <a:ext cx="1784520" cy="228600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3429000" y="773280"/>
            <a:ext cx="2133720" cy="20271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7010280" y="609480"/>
            <a:ext cx="838440" cy="28195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4"/>
          <a:stretch/>
        </p:blipFill>
        <p:spPr>
          <a:xfrm>
            <a:off x="533520" y="3962520"/>
            <a:ext cx="2095560" cy="218124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5"/>
          <a:stretch/>
        </p:blipFill>
        <p:spPr>
          <a:xfrm>
            <a:off x="3505320" y="3886200"/>
            <a:ext cx="2133360" cy="21337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6"/>
          <a:stretch/>
        </p:blipFill>
        <p:spPr>
          <a:xfrm>
            <a:off x="6172200" y="4010040"/>
            <a:ext cx="2276640" cy="200988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18600" y="2997360"/>
            <a:ext cx="235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Verdana"/>
              </a:rPr>
              <a:t>Escuchar músic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192840" y="2803680"/>
            <a:ext cx="255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Verdana"/>
              </a:rPr>
              <a:t>Mirar la televisió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250320" y="3429000"/>
            <a:ext cx="267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Verdana"/>
              </a:rPr>
              <a:t>Hablar por teléfo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69480" y="6248520"/>
            <a:ext cx="110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Verdana"/>
              </a:rPr>
              <a:t>Canta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006800" y="6172200"/>
            <a:ext cx="9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Verdana"/>
              </a:rPr>
              <a:t>Bail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848280" y="6019920"/>
            <a:ext cx="121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Verdana"/>
              </a:rPr>
              <a:t>Cocina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304920" y="1522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Como se dice en espanol…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3247920" y="762120"/>
            <a:ext cx="2390760" cy="191448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6324480" y="762120"/>
            <a:ext cx="2457720" cy="186696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762120" y="762120"/>
            <a:ext cx="1699920" cy="190476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228600" y="3886200"/>
            <a:ext cx="3048120" cy="13716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5"/>
          <a:stretch/>
        </p:blipFill>
        <p:spPr>
          <a:xfrm>
            <a:off x="3429000" y="3379680"/>
            <a:ext cx="2543040" cy="248760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6"/>
          <a:stretch/>
        </p:blipFill>
        <p:spPr>
          <a:xfrm>
            <a:off x="6477120" y="3429000"/>
            <a:ext cx="2057400" cy="202896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904320" y="2590920"/>
            <a:ext cx="132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Verdana"/>
              </a:rPr>
              <a:t>Camina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814200" y="2666880"/>
            <a:ext cx="132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Verdana"/>
              </a:rPr>
              <a:t>Trabaja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788880" y="2666880"/>
            <a:ext cx="149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Verdana"/>
              </a:rPr>
              <a:t>Descans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177920" y="5410080"/>
            <a:ext cx="97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Verdana"/>
              </a:rPr>
              <a:t>Nad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03280" y="5867280"/>
            <a:ext cx="99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Verdana"/>
              </a:rPr>
              <a:t>Viaja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541920" y="5638680"/>
            <a:ext cx="237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Verdana"/>
              </a:rPr>
              <a:t>Tocar la guitarr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2257560" cy="202896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3446640" y="457200"/>
            <a:ext cx="2206440" cy="23623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304920" y="3762360"/>
            <a:ext cx="2590560" cy="212724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4"/>
          <a:stretch/>
        </p:blipFill>
        <p:spPr>
          <a:xfrm>
            <a:off x="3200400" y="3429000"/>
            <a:ext cx="2492280" cy="289548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5"/>
          <a:stretch/>
        </p:blipFill>
        <p:spPr>
          <a:xfrm>
            <a:off x="6019920" y="3733920"/>
            <a:ext cx="2895480" cy="207468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6"/>
          <a:stretch/>
        </p:blipFill>
        <p:spPr>
          <a:xfrm>
            <a:off x="6434280" y="533520"/>
            <a:ext cx="2170080" cy="297180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661680" y="2590920"/>
            <a:ext cx="20293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Verdana"/>
              </a:rPr>
              <a:t>Tocar el pian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199680" y="2895480"/>
            <a:ext cx="26557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Verdana"/>
              </a:rPr>
              <a:t>Comprar la comid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382800" y="3124080"/>
            <a:ext cx="231264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Verdana"/>
              </a:rPr>
              <a:t>Comprar la rop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7320" y="5715000"/>
            <a:ext cx="19821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Verdana"/>
              </a:rPr>
              <a:t>Jugar Béisbol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37600" y="6248520"/>
            <a:ext cx="31906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Verdana"/>
              </a:rPr>
              <a:t>Jugar futbol american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92800" y="5638680"/>
            <a:ext cx="23875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Verdana"/>
              </a:rPr>
              <a:t>Jugar balonces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695160" y="565200"/>
            <a:ext cx="3571920" cy="2178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5486400" y="625320"/>
            <a:ext cx="2743200" cy="219420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990720" y="3352680"/>
            <a:ext cx="3429000" cy="29718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4"/>
          <a:stretch/>
        </p:blipFill>
        <p:spPr>
          <a:xfrm>
            <a:off x="5715000" y="3200400"/>
            <a:ext cx="2792520" cy="350532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1697400" y="2803680"/>
            <a:ext cx="176724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Verdana"/>
              </a:rPr>
              <a:t>Jugar futbo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576760" y="2651040"/>
            <a:ext cx="246204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Verdana"/>
              </a:rPr>
              <a:t>Jugar videojueg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263600" y="6095880"/>
            <a:ext cx="29163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Verdana"/>
              </a:rPr>
              <a:t>Usar la computador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335280" y="6172200"/>
            <a:ext cx="13680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Verdana"/>
              </a:rPr>
              <a:t>Estudiar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457200" y="533520"/>
            <a:ext cx="1800360" cy="205740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2819520" y="304920"/>
            <a:ext cx="2361960" cy="17715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3"/>
          <a:stretch/>
        </p:blipFill>
        <p:spPr>
          <a:xfrm>
            <a:off x="5486400" y="22860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4"/>
          <a:stretch/>
        </p:blipFill>
        <p:spPr>
          <a:xfrm>
            <a:off x="685800" y="3505320"/>
            <a:ext cx="3048120" cy="228276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5"/>
          <a:stretch/>
        </p:blipFill>
        <p:spPr>
          <a:xfrm>
            <a:off x="4495680" y="2666880"/>
            <a:ext cx="1676520" cy="273384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6"/>
          <a:stretch/>
        </p:blipFill>
        <p:spPr>
          <a:xfrm>
            <a:off x="7620120" y="1905120"/>
            <a:ext cx="1162080" cy="196992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441000" y="2666880"/>
            <a:ext cx="21895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Verdana"/>
              </a:rPr>
              <a:t>Hacer ejercic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348000" y="2209680"/>
            <a:ext cx="12855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Verdana"/>
              </a:rPr>
              <a:t>Ir al c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985000" y="2057400"/>
            <a:ext cx="15904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Verdana"/>
              </a:rPr>
              <a:t>Ir a fiesta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262160" y="5867280"/>
            <a:ext cx="16696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Verdana"/>
              </a:rPr>
              <a:t>Ir a la play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109400" y="5410080"/>
            <a:ext cx="23569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Verdana"/>
              </a:rPr>
              <a:t>Leer el periódic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082640" y="3733920"/>
            <a:ext cx="19350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Verdana"/>
              </a:rPr>
              <a:t>Ir de compr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7020000" y="4419720"/>
            <a:ext cx="1743120" cy="19112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6075720" y="6324480"/>
            <a:ext cx="271044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Verdana"/>
              </a:rPr>
              <a:t>Salir con amigos/a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Tarea # 13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mpleta las hojas distribuidas;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Digalo bie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ring your bookcover you are getting zeros!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1T12:50:46Z</dcterms:created>
  <dc:creator>Helen Zumaeta</dc:creator>
  <dc:description/>
  <dc:language>en-US</dc:language>
  <cp:lastModifiedBy>NYCDOE</cp:lastModifiedBy>
  <dcterms:modified xsi:type="dcterms:W3CDTF">2011-11-07T15:41:01Z</dcterms:modified>
  <cp:revision>6</cp:revision>
  <dc:subject/>
  <dc:title>Me llamo _________       Clase 10 NM La fecha es el 21 de septiembre del 2011</dc:title>
</cp:coreProperties>
</file>